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1.gif" ContentType="image/gif"/>
  <Override PartName="/ppt/media/image7.png" ContentType="image/png"/>
  <Override PartName="/ppt/media/image22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FA6-D683-40DD-AAC2-E2C1F94F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690-60E8-4C6F-ABAA-70270441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620-5CE4-4E67-9C60-B6E8CE26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D47-FF10-4E9E-A260-0F5F855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70C-39C7-4712-BE52-96FD6F9F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62-53D2-4D92-8F29-5A11B27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BD6-AD60-4308-9078-A576219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90B-E753-420F-B777-8D42E4A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591-9B69-4A30-968E-C76B9F13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3B3-7653-4A2B-A056-CAE13926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45F-767C-42BF-8C88-D73C4A40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3D1-E86A-493A-B10F-9AF1CE09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h086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407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30600" y="34920"/>
            <a:ext cx="30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第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7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章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SQL Server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代理服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6880" y="594360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1520" y="4572000"/>
            <a:ext cx="1143000" cy="6094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gif298" descr="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BA8-0119-448E-88EB-7047E813E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25.xml"/><Relationship Id="rId7" Type="http://schemas.openxmlformats.org/officeDocument/2006/relationships/hyperlink" Target="file:///&#31532;6&#31456;%20%20%20SQL%20Server&#26435;&#38480;&#31649;&#29702;.ppt" TargetMode="External"/><Relationship Id="rId8" Type="http://schemas.openxmlformats.org/officeDocument/2006/relationships/image" Target="../media/image2.png"/><Relationship Id="rId9" Type="http://schemas.openxmlformats.org/officeDocument/2006/relationships/hyperlink" Target="file:///&#30446;&#24405;.ppt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31532;8&#31456;%20%20%20%20SQL%20Server&#25968;&#25454;&#22797;&#21046;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SQL Server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代理服务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1520" y="1981080"/>
            <a:ext cx="385812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7.1   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SQL Server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代理服务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7.2   定义操作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7.3   作业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7.4   警报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956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6.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14400"/>
            <a:ext cx="4260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38360" y="5486400"/>
            <a:ext cx="29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7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操作员属性—通知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管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般来说，如果要创建作业，必须执行以下三个步骤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定义作业步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如果该作业不是用户指定执行，创建作业执行的调度时间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知操作员作业的状态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7.3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作业步定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个作业可以含有一步或多步，有不同定义作业的方法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执行一个可执行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激活一个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创建作业，步骤如下：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然后打开已经启动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，用右键单击作业图标，从快捷菜单中选择新建作业选项，则出现新建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6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523880"/>
            <a:ext cx="5786280" cy="29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68280" y="487692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每个作业必须有一个或者多个步骤，所以，除了定义作业属性外，在保存作业前，还至少要定义一个作业步骤；要定义作业步骤，选择新建作业属性对话框中的步骤页框，然后在步骤页框中单击新建按钮，则出现新建作业步骤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335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6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143000"/>
            <a:ext cx="5548320" cy="3724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68120" y="518148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9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新建作业步骤对话框中的高级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6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810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62840" y="563868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0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高级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类型下拉框含有的选项及含义如下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：运行一个脚本语言程序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操作系统命令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exe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cm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ba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分发服务器：定义复制分发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合并：定义复制合并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快照：定义复制快照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创建的作业可以按照需要指定执行，或者使用一个或多个时间表执行。一个调度的作业在特定的时间执行，或者在定期的时间执行。每个作业可以有多个时间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是一个任务规划器和警报管理器，在实际应用时，可以将那些周期性的工作定义成一个任务，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的帮助下自动执行；在自动执行时，若出现故障，则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自动通知操作员，操作员获得通知后及时排除故障。如此在任务、操作员、警报三者之间既相互独立，又相互联系、相互补充，构成了自动完成某些任务的有机整体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企业管理器为现有的作业创建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管理文件夹，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并单击作业；然后，用右键单击右边窗格中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则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调度标签，然后单击新建调度按钮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更改按钮，打开编辑反复出现的作业调度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6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19320" y="1143000"/>
            <a:ext cx="6019560" cy="3406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38240" y="49528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调度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6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410080" cy="3949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55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反复出现的作业调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执行状态通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905120"/>
            <a:ext cx="7331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为现有的作业设置作业执行状态通知，用右键单击指定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项，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，然后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6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1523880"/>
            <a:ext cx="6091200" cy="3079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68800" y="495288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—通知页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警报管理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创建事件警报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展开启动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理，用右键单击警报图标，从快捷菜单中选择新建警报选项，从中选择常规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中错误号单选按钮，然后单击右边的方框按钮，则出现管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选择搜索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消息页框，然后单击新建按钮，出现新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响应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337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6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4572000" cy="441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30160" y="548640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4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警报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9092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6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43000" y="1066680"/>
            <a:ext cx="5791320" cy="3716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43000" y="50292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5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—搜索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95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6.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676520"/>
            <a:ext cx="6400800" cy="297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6680" y="5002200"/>
            <a:ext cx="35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6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性能警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是指当某一性能指数超过预定义的性能时，性能警报就会被触发，通过在性能警报中定义的电子邮件或者寻呼，就可以把响应的警报信息通知给管理员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的创建与事件警报的创建类似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1   SQL Serve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服务配置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服务配置步骤 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启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。用右键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属性）选项，则出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属性对话框，选择常规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420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14800" cy="3194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523880"/>
            <a:ext cx="1033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谢您 的光临，再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38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6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600200"/>
            <a:ext cx="3732120" cy="384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1160" y="5638680"/>
            <a:ext cx="38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    SQL Serve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理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 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选择常规页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高级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6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752480"/>
            <a:ext cx="3875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警报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848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6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752480"/>
            <a:ext cx="40244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作业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6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828800"/>
            <a:ext cx="38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连接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6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752480"/>
            <a:ext cx="392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定义操作员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可以创建一个操作员，其具体步骤如下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，展开指定的服务器并打开管理文件夹，然后选中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如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没有启动，则用右键单击后选择启动选项启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0:17:33Z</dcterms:created>
  <dc:creator>haier</dc:creator>
  <dc:description/>
  <dc:language>en-US</dc:language>
  <cp:lastModifiedBy>lcb</cp:lastModifiedBy>
  <dcterms:modified xsi:type="dcterms:W3CDTF">2001-08-19T14:45:01Z</dcterms:modified>
  <cp:revision>39</cp:revision>
  <dc:subject/>
  <dc:title>第7章   SQL Server代理服务 </dc:title>
</cp:coreProperties>
</file>